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A2ED9-8D1E-4A51-B3A7-278B81265E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147-FD46-4416-BBDB-48A0FB6F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CBF6-2987-4B9A-94B1-0ACE8B0B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215-9F1A-4C63-98F8-F1B379A0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E040-4637-4D74-AE80-CFCE2E52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ABA-DDA0-4047-A0F9-9F3B9C73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6B0-8D02-4B7A-AC3C-F9DA5FD9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D52-6DA9-455A-9E4B-616209F5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657-6F1E-44BC-A4A7-887D208B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C6C-D755-42FA-A2AD-A7073874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6ED-D338-4A8F-96F2-72A268C0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992-1FAA-4F5F-8108-F8E7B8D3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B71-BBFB-4DE4-BAE9-821303BB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71D01-2A3B-4F8C-8B23-0926AC9AFB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40680" y="135000"/>
            <a:ext cx="855720" cy="1152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0680" y="220680"/>
            <a:ext cx="1800360" cy="38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435400"/>
            <a:ext cx="1008072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000080"/>
                </a:solidFill>
                <a:latin typeface="Times New Roman"/>
              </a:rPr>
              <a:t>FORCES - BRIDG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yne Bridge, Newcas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6880" y="4649760"/>
            <a:ext cx="3519360" cy="2349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986440" y="4635360"/>
            <a:ext cx="3497400" cy="23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8680" y="2374920"/>
            <a:ext cx="9424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e Tyne Bridge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cas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8520" y="3184560"/>
            <a:ext cx="909792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02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pened in 19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Design by Mott, Hay and Anderson, based on their design of the Sydney Harbour Bridge in Austr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When it was opened by King George V it was the longest single-span bridge in the U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The engineers had to analyse the Tyne Bridge as a complete structure so that it would stand up once built but they also had to think about how to hold it up while it was being constructed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78920" cy="22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351080" y="91116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5600" y="212760"/>
            <a:ext cx="37958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9720" y="5942160"/>
            <a:ext cx="89708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0200" indent="-216000">
              <a:lnSpc>
                <a:spcPct val="95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Gothic"/>
              </a:rPr>
              <a:t>Road ways on either side of river built to correct hei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5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Gothic"/>
              </a:rPr>
              <a:t>Used as supports for construction of arch and main bridge de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5600" y="212760"/>
            <a:ext cx="40892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9720" y="5942160"/>
            <a:ext cx="89708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0200" indent="-216000">
              <a:lnSpc>
                <a:spcPct val="95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ach half built outwards from the 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5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Gothic"/>
              </a:rPr>
              <a:t>During construction, incomplete sections 'tied-back' to temporary towers on the ban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293840" y="811080"/>
            <a:ext cx="7620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860400"/>
            <a:ext cx="7620120" cy="4962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5600" y="212760"/>
            <a:ext cx="37958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9720" y="5942160"/>
            <a:ext cx="89708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0200" indent="-216000">
              <a:lnSpc>
                <a:spcPct val="95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ans joined 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95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 Gothic"/>
              </a:rPr>
              <a:t>Vertical ties attached then bridge deck built when arch compl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5600" y="212760"/>
            <a:ext cx="6948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struction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95440" y="2413080"/>
            <a:ext cx="1604880" cy="135000"/>
          </a:xfrm>
          <a:prstGeom prst="roundRect">
            <a:avLst>
              <a:gd name="adj" fmla="val 119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37480" y="2406600"/>
            <a:ext cx="1604880" cy="135000"/>
          </a:xfrm>
          <a:prstGeom prst="roundRect">
            <a:avLst>
              <a:gd name="adj" fmla="val 119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02720" y="2541600"/>
            <a:ext cx="50760" cy="312840"/>
          </a:xfrm>
          <a:custGeom>
            <a:avLst/>
            <a:gdLst>
              <a:gd name="textAreaLeft" fmla="*/ 360 w 50760"/>
              <a:gd name="textAreaRight" fmla="*/ 50400 w 50760"/>
              <a:gd name="textAreaTop" fmla="*/ 360 h 312840"/>
              <a:gd name="textAreaBottom" fmla="*/ 312480 h 312840"/>
            </a:gdLst>
            <a:ahLst/>
            <a:rect l="textAreaLeft" t="textAreaTop" r="textAreaRight" b="textAreaBottom"/>
            <a:pathLst>
              <a:path w="21600" h="132338">
                <a:moveTo>
                  <a:pt x="675" y="0"/>
                </a:moveTo>
                <a:arcTo wR="675" hR="675" stAng="16200000" swAng="-5400000"/>
                <a:lnTo>
                  <a:pt x="0" y="131663"/>
                </a:lnTo>
                <a:arcTo wR="675" hR="675" stAng="10800000" swAng="-5400000"/>
                <a:lnTo>
                  <a:pt x="20925" y="132338"/>
                </a:lnTo>
                <a:arcTo wR="675" hR="675" stAng="5400000" swAng="-5400000"/>
                <a:lnTo>
                  <a:pt x="21600" y="675"/>
                </a:lnTo>
                <a:arcTo wR="675" hR="67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51600" y="2541600"/>
            <a:ext cx="57240" cy="461880"/>
          </a:xfrm>
          <a:custGeom>
            <a:avLst/>
            <a:gdLst>
              <a:gd name="textAreaLeft" fmla="*/ 360 w 57240"/>
              <a:gd name="textAreaRight" fmla="*/ 56880 w 57240"/>
              <a:gd name="textAreaTop" fmla="*/ 360 h 461880"/>
              <a:gd name="textAreaBottom" fmla="*/ 461520 h 461880"/>
            </a:gdLst>
            <a:ahLst/>
            <a:rect l="textAreaLeft" t="textAreaTop" r="textAreaRight" b="textAreaBottom"/>
            <a:pathLst>
              <a:path w="21600" h="173340">
                <a:moveTo>
                  <a:pt x="600" y="0"/>
                </a:moveTo>
                <a:arcTo wR="600" hR="600" stAng="16200000" swAng="-5400000"/>
                <a:lnTo>
                  <a:pt x="0" y="172740"/>
                </a:lnTo>
                <a:arcTo wR="600" hR="600" stAng="10800000" swAng="-5400000"/>
                <a:lnTo>
                  <a:pt x="21000" y="173340"/>
                </a:lnTo>
                <a:arcTo wR="600" hR="600" stAng="5400000" swAng="-5400000"/>
                <a:lnTo>
                  <a:pt x="21600" y="600"/>
                </a:lnTo>
                <a:arcTo wR="600" hR="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35440" y="2554200"/>
            <a:ext cx="56880" cy="439920"/>
          </a:xfrm>
          <a:custGeom>
            <a:avLst/>
            <a:gdLst>
              <a:gd name="textAreaLeft" fmla="*/ 360 w 56880"/>
              <a:gd name="textAreaRight" fmla="*/ 56520 w 56880"/>
              <a:gd name="textAreaTop" fmla="*/ 360 h 439920"/>
              <a:gd name="textAreaBottom" fmla="*/ 439560 h 439920"/>
            </a:gdLst>
            <a:ahLst/>
            <a:rect l="textAreaLeft" t="textAreaTop" r="textAreaRight" b="textAreaBottom"/>
            <a:pathLst>
              <a:path w="21600" h="166143">
                <a:moveTo>
                  <a:pt x="600" y="0"/>
                </a:moveTo>
                <a:arcTo wR="600" hR="600" stAng="16200000" swAng="-5400000"/>
                <a:lnTo>
                  <a:pt x="0" y="165543"/>
                </a:lnTo>
                <a:arcTo wR="600" hR="600" stAng="10800000" swAng="-5400000"/>
                <a:lnTo>
                  <a:pt x="21000" y="166143"/>
                </a:lnTo>
                <a:arcTo wR="600" hR="600" stAng="5400000" swAng="-5400000"/>
                <a:lnTo>
                  <a:pt x="21600" y="600"/>
                </a:lnTo>
                <a:arcTo wR="600" hR="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82640" y="2552760"/>
            <a:ext cx="50760" cy="422280"/>
          </a:xfrm>
          <a:custGeom>
            <a:avLst/>
            <a:gdLst>
              <a:gd name="textAreaLeft" fmla="*/ 360 w 50760"/>
              <a:gd name="textAreaRight" fmla="*/ 50400 w 50760"/>
              <a:gd name="textAreaTop" fmla="*/ 360 h 422280"/>
              <a:gd name="textAreaBottom" fmla="*/ 421920 h 422280"/>
            </a:gdLst>
            <a:ahLst/>
            <a:rect l="textAreaLeft" t="textAreaTop" r="textAreaRight" b="textAreaBottom"/>
            <a:pathLst>
              <a:path w="21600" h="178580">
                <a:moveTo>
                  <a:pt x="675" y="0"/>
                </a:moveTo>
                <a:arcTo wR="675" hR="675" stAng="16200000" swAng="-5400000"/>
                <a:lnTo>
                  <a:pt x="0" y="177905"/>
                </a:lnTo>
                <a:arcTo wR="675" hR="675" stAng="10800000" swAng="-5400000"/>
                <a:lnTo>
                  <a:pt x="20925" y="178580"/>
                </a:lnTo>
                <a:arcTo wR="675" hR="675" stAng="5400000" swAng="-5400000"/>
                <a:lnTo>
                  <a:pt x="21600" y="675"/>
                </a:lnTo>
                <a:arcTo wR="675" hR="67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3120" y="2975040"/>
            <a:ext cx="2244960" cy="28440"/>
          </a:xfrm>
          <a:custGeom>
            <a:avLst/>
            <a:gdLst/>
            <a:ahLst/>
            <a:rect l="l" t="t" r="r" b="b"/>
            <a:pathLst>
              <a:path w="6236" h="81">
                <a:moveTo>
                  <a:pt x="0" y="0"/>
                </a:moveTo>
                <a:lnTo>
                  <a:pt x="6235" y="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18080" y="3006720"/>
            <a:ext cx="1440" cy="325440"/>
          </a:xfrm>
          <a:custGeom>
            <a:avLst/>
            <a:gdLst/>
            <a:ahLst/>
            <a:rect l="l" t="t" r="r" b="b"/>
            <a:pathLst>
              <a:path w="5" h="902">
                <a:moveTo>
                  <a:pt x="0" y="0"/>
                </a:moveTo>
                <a:lnTo>
                  <a:pt x="4" y="90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57880" y="3003480"/>
            <a:ext cx="3240" cy="317520"/>
          </a:xfrm>
          <a:custGeom>
            <a:avLst/>
            <a:gdLst/>
            <a:ahLst/>
            <a:rect l="l" t="t" r="r" b="b"/>
            <a:pathLst>
              <a:path w="7" h="883">
                <a:moveTo>
                  <a:pt x="0" y="882"/>
                </a:moveTo>
                <a:lnTo>
                  <a:pt x="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62560" y="3003480"/>
            <a:ext cx="843120" cy="3240"/>
          </a:xfrm>
          <a:custGeom>
            <a:avLst/>
            <a:gdLst/>
            <a:ahLst/>
            <a:rect l="l" t="t" r="r" b="b"/>
            <a:pathLst>
              <a:path w="2342" h="7">
                <a:moveTo>
                  <a:pt x="0" y="6"/>
                </a:moveTo>
                <a:lnTo>
                  <a:pt x="234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20960" y="2990880"/>
            <a:ext cx="2540160" cy="114120"/>
          </a:xfrm>
          <a:custGeom>
            <a:avLst/>
            <a:gdLst/>
            <a:ahLst/>
            <a:rect l="l" t="t" r="r" b="b"/>
            <a:pathLst>
              <a:path w="7056" h="319">
                <a:moveTo>
                  <a:pt x="0" y="134"/>
                </a:moveTo>
                <a:cubicBezTo>
                  <a:pt x="220" y="55"/>
                  <a:pt x="374" y="259"/>
                  <a:pt x="598" y="233"/>
                </a:cubicBezTo>
                <a:cubicBezTo>
                  <a:pt x="794" y="210"/>
                  <a:pt x="997" y="213"/>
                  <a:pt x="1196" y="233"/>
                </a:cubicBezTo>
                <a:cubicBezTo>
                  <a:pt x="1417" y="255"/>
                  <a:pt x="1601" y="0"/>
                  <a:pt x="1794" y="115"/>
                </a:cubicBezTo>
                <a:cubicBezTo>
                  <a:pt x="2002" y="238"/>
                  <a:pt x="2202" y="275"/>
                  <a:pt x="2411" y="253"/>
                </a:cubicBezTo>
                <a:cubicBezTo>
                  <a:pt x="2609" y="232"/>
                  <a:pt x="2805" y="224"/>
                  <a:pt x="3009" y="273"/>
                </a:cubicBezTo>
                <a:cubicBezTo>
                  <a:pt x="3200" y="318"/>
                  <a:pt x="3407" y="281"/>
                  <a:pt x="3607" y="273"/>
                </a:cubicBezTo>
                <a:cubicBezTo>
                  <a:pt x="3807" y="265"/>
                  <a:pt x="4007" y="300"/>
                  <a:pt x="4205" y="213"/>
                </a:cubicBezTo>
                <a:cubicBezTo>
                  <a:pt x="4387" y="133"/>
                  <a:pt x="4600" y="71"/>
                  <a:pt x="4803" y="115"/>
                </a:cubicBezTo>
                <a:cubicBezTo>
                  <a:pt x="4997" y="157"/>
                  <a:pt x="5195" y="230"/>
                  <a:pt x="5400" y="213"/>
                </a:cubicBezTo>
                <a:cubicBezTo>
                  <a:pt x="5605" y="197"/>
                  <a:pt x="5812" y="222"/>
                  <a:pt x="6018" y="194"/>
                </a:cubicBezTo>
                <a:cubicBezTo>
                  <a:pt x="6217" y="166"/>
                  <a:pt x="6413" y="65"/>
                  <a:pt x="6616" y="134"/>
                </a:cubicBezTo>
                <a:lnTo>
                  <a:pt x="6816" y="134"/>
                </a:lnTo>
                <a:lnTo>
                  <a:pt x="7015" y="154"/>
                </a:lnTo>
                <a:lnTo>
                  <a:pt x="7055" y="1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05680" y="2746440"/>
            <a:ext cx="1390680" cy="258840"/>
          </a:xfrm>
          <a:custGeom>
            <a:avLst/>
            <a:gdLst/>
            <a:ahLst/>
            <a:rect l="l" t="t" r="r" b="b"/>
            <a:pathLst>
              <a:path w="3865" h="718">
                <a:moveTo>
                  <a:pt x="0" y="717"/>
                </a:moveTo>
                <a:lnTo>
                  <a:pt x="3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08240" y="2833560"/>
            <a:ext cx="60480" cy="162000"/>
          </a:xfrm>
          <a:custGeom>
            <a:avLst/>
            <a:gdLst/>
            <a:ahLst/>
            <a:rect l="l" t="t" r="r" b="b"/>
            <a:pathLst>
              <a:path w="169" h="451">
                <a:moveTo>
                  <a:pt x="0" y="450"/>
                </a:moveTo>
                <a:lnTo>
                  <a:pt x="1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68720" y="2427120"/>
            <a:ext cx="387360" cy="406440"/>
          </a:xfrm>
          <a:custGeom>
            <a:avLst/>
            <a:gdLst/>
            <a:ahLst/>
            <a:rect l="l" t="t" r="r" b="b"/>
            <a:pathLst>
              <a:path w="1076" h="1130">
                <a:moveTo>
                  <a:pt x="1075" y="0"/>
                </a:moveTo>
                <a:lnTo>
                  <a:pt x="0" y="11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06800" y="2433600"/>
            <a:ext cx="592200" cy="561960"/>
          </a:xfrm>
          <a:custGeom>
            <a:avLst/>
            <a:gdLst/>
            <a:ahLst/>
            <a:rect l="l" t="t" r="r" b="b"/>
            <a:pathLst>
              <a:path w="1646" h="1560">
                <a:moveTo>
                  <a:pt x="1645" y="0"/>
                </a:moveTo>
                <a:lnTo>
                  <a:pt x="0" y="155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53240" y="2820960"/>
            <a:ext cx="54000" cy="184320"/>
          </a:xfrm>
          <a:custGeom>
            <a:avLst/>
            <a:gdLst/>
            <a:ahLst/>
            <a:rect l="l" t="t" r="r" b="b"/>
            <a:pathLst>
              <a:path w="151" h="510">
                <a:moveTo>
                  <a:pt x="150" y="509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2433600"/>
            <a:ext cx="358920" cy="385920"/>
          </a:xfrm>
          <a:custGeom>
            <a:avLst/>
            <a:gdLst/>
            <a:ahLst/>
            <a:rect l="l" t="t" r="r" b="b"/>
            <a:pathLst>
              <a:path w="996" h="1070">
                <a:moveTo>
                  <a:pt x="0" y="0"/>
                </a:moveTo>
                <a:lnTo>
                  <a:pt x="995" y="106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13600" y="2436840"/>
            <a:ext cx="591840" cy="566640"/>
          </a:xfrm>
          <a:custGeom>
            <a:avLst/>
            <a:gdLst/>
            <a:ahLst/>
            <a:rect l="l" t="t" r="r" b="b"/>
            <a:pathLst>
              <a:path w="1647" h="1574">
                <a:moveTo>
                  <a:pt x="0" y="0"/>
                </a:moveTo>
                <a:lnTo>
                  <a:pt x="1646" y="157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99360" y="2441520"/>
            <a:ext cx="438120" cy="1800"/>
          </a:xfrm>
          <a:custGeom>
            <a:avLst/>
            <a:gdLst/>
            <a:ahLst/>
            <a:rect l="l" t="t" r="r" b="b"/>
            <a:pathLst>
              <a:path w="1217" h="1">
                <a:moveTo>
                  <a:pt x="0" y="0"/>
                </a:moveTo>
                <a:lnTo>
                  <a:pt x="121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97080" y="2433600"/>
            <a:ext cx="444600" cy="1800"/>
          </a:xfrm>
          <a:custGeom>
            <a:avLst/>
            <a:gdLst/>
            <a:ahLst/>
            <a:rect l="l" t="t" r="r" b="b"/>
            <a:pathLst>
              <a:path w="1236" h="1">
                <a:moveTo>
                  <a:pt x="1235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91080" y="2136600"/>
            <a:ext cx="387360" cy="306720"/>
          </a:xfrm>
          <a:custGeom>
            <a:avLst/>
            <a:gdLst/>
            <a:ahLst/>
            <a:rect l="l" t="t" r="r" b="b"/>
            <a:pathLst>
              <a:path w="1078" h="849">
                <a:moveTo>
                  <a:pt x="0" y="848"/>
                </a:moveTo>
                <a:cubicBezTo>
                  <a:pt x="504" y="351"/>
                  <a:pt x="1077" y="0"/>
                  <a:pt x="107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57520" y="2081160"/>
            <a:ext cx="387360" cy="339840"/>
          </a:xfrm>
          <a:custGeom>
            <a:avLst/>
            <a:gdLst/>
            <a:ahLst/>
            <a:rect l="l" t="t" r="r" b="b"/>
            <a:pathLst>
              <a:path w="1078" h="944">
                <a:moveTo>
                  <a:pt x="0" y="943"/>
                </a:moveTo>
                <a:cubicBezTo>
                  <a:pt x="504" y="390"/>
                  <a:pt x="1077" y="0"/>
                  <a:pt x="107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2124000"/>
            <a:ext cx="417600" cy="309600"/>
          </a:xfrm>
          <a:custGeom>
            <a:avLst/>
            <a:gdLst/>
            <a:ahLst/>
            <a:rect l="l" t="t" r="r" b="b"/>
            <a:pathLst>
              <a:path w="1159" h="862">
                <a:moveTo>
                  <a:pt x="1158" y="861"/>
                </a:moveTo>
                <a:cubicBezTo>
                  <a:pt x="616" y="356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59440" y="2071800"/>
            <a:ext cx="428760" cy="358560"/>
          </a:xfrm>
          <a:custGeom>
            <a:avLst/>
            <a:gdLst/>
            <a:ahLst/>
            <a:rect l="l" t="t" r="r" b="b"/>
            <a:pathLst>
              <a:path w="1189" h="995">
                <a:moveTo>
                  <a:pt x="1188" y="994"/>
                </a:moveTo>
                <a:cubicBezTo>
                  <a:pt x="632" y="411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77160" y="2054160"/>
            <a:ext cx="30240" cy="343080"/>
          </a:xfrm>
          <a:custGeom>
            <a:avLst/>
            <a:gdLst>
              <a:gd name="textAreaLeft" fmla="*/ 360 w 30240"/>
              <a:gd name="textAreaRight" fmla="*/ 29880 w 30240"/>
              <a:gd name="textAreaTop" fmla="*/ 360 h 343080"/>
              <a:gd name="textAreaBottom" fmla="*/ 342720 h 343080"/>
            </a:gdLst>
            <a:ahLst/>
            <a:rect l="textAreaLeft" t="textAreaTop" r="textAreaRight" b="textAreaBottom"/>
            <a:pathLst>
              <a:path w="21600" h="242428">
                <a:moveTo>
                  <a:pt x="1200" y="0"/>
                </a:moveTo>
                <a:arcTo wR="1200" hR="1200" stAng="16200000" swAng="-5400000"/>
                <a:lnTo>
                  <a:pt x="0" y="241228"/>
                </a:lnTo>
                <a:arcTo wR="1200" hR="1200" stAng="10800000" swAng="-5400000"/>
                <a:lnTo>
                  <a:pt x="20400" y="242428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3360" y="2060640"/>
            <a:ext cx="29880" cy="347760"/>
          </a:xfrm>
          <a:custGeom>
            <a:avLst/>
            <a:gdLst>
              <a:gd name="textAreaLeft" fmla="*/ 360 w 29880"/>
              <a:gd name="textAreaRight" fmla="*/ 29520 w 29880"/>
              <a:gd name="textAreaTop" fmla="*/ 360 h 347760"/>
              <a:gd name="textAreaBottom" fmla="*/ 347400 h 347760"/>
            </a:gdLst>
            <a:ahLst/>
            <a:rect l="textAreaLeft" t="textAreaTop" r="textAreaRight" b="textAreaBottom"/>
            <a:pathLst>
              <a:path w="21600" h="248657">
                <a:moveTo>
                  <a:pt x="1200" y="0"/>
                </a:moveTo>
                <a:arcTo wR="1200" hR="1200" stAng="16200000" swAng="-5400000"/>
                <a:lnTo>
                  <a:pt x="0" y="247457"/>
                </a:lnTo>
                <a:arcTo wR="1200" hR="1200" stAng="10800000" swAng="-5400000"/>
                <a:lnTo>
                  <a:pt x="20400" y="248657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59440" y="2070000"/>
            <a:ext cx="1017720" cy="1800"/>
          </a:xfrm>
          <a:custGeom>
            <a:avLst/>
            <a:gdLst/>
            <a:ahLst/>
            <a:rect l="l" t="t" r="r" b="b"/>
            <a:pathLst>
              <a:path w="2827" h="1">
                <a:moveTo>
                  <a:pt x="0" y="0"/>
                </a:moveTo>
                <a:lnTo>
                  <a:pt x="282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2079720"/>
            <a:ext cx="968400" cy="1440"/>
          </a:xfrm>
          <a:custGeom>
            <a:avLst/>
            <a:gdLst/>
            <a:ahLst/>
            <a:rect l="l" t="t" r="r" b="b"/>
            <a:pathLst>
              <a:path w="2688" h="1">
                <a:moveTo>
                  <a:pt x="268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05600" y="2070000"/>
            <a:ext cx="479520" cy="335160"/>
          </a:xfrm>
          <a:custGeom>
            <a:avLst/>
            <a:gdLst/>
            <a:ahLst/>
            <a:rect l="l" t="t" r="r" b="b"/>
            <a:pathLst>
              <a:path w="1331" h="929">
                <a:moveTo>
                  <a:pt x="0" y="0"/>
                </a:moveTo>
                <a:lnTo>
                  <a:pt x="1330" y="928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17840" y="2075040"/>
            <a:ext cx="423720" cy="334800"/>
          </a:xfrm>
          <a:custGeom>
            <a:avLst/>
            <a:gdLst/>
            <a:ahLst/>
            <a:rect l="l" t="t" r="r" b="b"/>
            <a:pathLst>
              <a:path w="1179" h="929">
                <a:moveTo>
                  <a:pt x="1178" y="0"/>
                </a:moveTo>
                <a:lnTo>
                  <a:pt x="0" y="928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78440" y="1925640"/>
            <a:ext cx="365040" cy="209520"/>
          </a:xfrm>
          <a:custGeom>
            <a:avLst/>
            <a:gdLst/>
            <a:ahLst/>
            <a:rect l="l" t="t" r="r" b="b"/>
            <a:pathLst>
              <a:path w="1015" h="583">
                <a:moveTo>
                  <a:pt x="0" y="582"/>
                </a:moveTo>
                <a:cubicBezTo>
                  <a:pt x="527" y="176"/>
                  <a:pt x="1014" y="0"/>
                  <a:pt x="101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44880" y="1803240"/>
            <a:ext cx="425520" cy="279720"/>
          </a:xfrm>
          <a:custGeom>
            <a:avLst/>
            <a:gdLst/>
            <a:ahLst/>
            <a:rect l="l" t="t" r="r" b="b"/>
            <a:pathLst>
              <a:path w="1183" h="778">
                <a:moveTo>
                  <a:pt x="0" y="777"/>
                </a:moveTo>
                <a:cubicBezTo>
                  <a:pt x="487" y="345"/>
                  <a:pt x="1182" y="0"/>
                  <a:pt x="1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88120" y="1911240"/>
            <a:ext cx="414360" cy="217440"/>
          </a:xfrm>
          <a:custGeom>
            <a:avLst/>
            <a:gdLst/>
            <a:ahLst/>
            <a:rect l="l" t="t" r="r" b="b"/>
            <a:pathLst>
              <a:path w="1152" h="604">
                <a:moveTo>
                  <a:pt x="1151" y="603"/>
                </a:moveTo>
                <a:cubicBezTo>
                  <a:pt x="553" y="182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08720" y="1805040"/>
            <a:ext cx="453960" cy="270000"/>
          </a:xfrm>
          <a:custGeom>
            <a:avLst/>
            <a:gdLst/>
            <a:ahLst/>
            <a:rect l="l" t="t" r="r" b="b"/>
            <a:pathLst>
              <a:path w="1260" h="748">
                <a:moveTo>
                  <a:pt x="1259" y="747"/>
                </a:moveTo>
                <a:cubicBezTo>
                  <a:pt x="740" y="332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43480" y="1738440"/>
            <a:ext cx="952560" cy="185760"/>
          </a:xfrm>
          <a:custGeom>
            <a:avLst/>
            <a:gdLst/>
            <a:ahLst/>
            <a:rect l="l" t="t" r="r" b="b"/>
            <a:pathLst>
              <a:path w="2647" h="516">
                <a:moveTo>
                  <a:pt x="0" y="515"/>
                </a:moveTo>
                <a:cubicBezTo>
                  <a:pt x="1286" y="0"/>
                  <a:pt x="2646" y="488"/>
                  <a:pt x="2646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67160" y="1544760"/>
            <a:ext cx="1143000" cy="261720"/>
          </a:xfrm>
          <a:custGeom>
            <a:avLst/>
            <a:gdLst/>
            <a:ahLst/>
            <a:rect l="l" t="t" r="r" b="b"/>
            <a:pathLst>
              <a:path w="3175" h="728">
                <a:moveTo>
                  <a:pt x="0" y="718"/>
                </a:moveTo>
                <a:cubicBezTo>
                  <a:pt x="1628" y="0"/>
                  <a:pt x="3174" y="727"/>
                  <a:pt x="3174" y="7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98880" y="2414520"/>
            <a:ext cx="471240" cy="1800"/>
          </a:xfrm>
          <a:custGeom>
            <a:avLst/>
            <a:gdLst/>
            <a:ahLst/>
            <a:rect l="l" t="t" r="r" b="b"/>
            <a:pathLst>
              <a:path w="1309" h="2">
                <a:moveTo>
                  <a:pt x="0" y="1"/>
                </a:moveTo>
                <a:lnTo>
                  <a:pt x="13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00320" y="2482920"/>
            <a:ext cx="401760" cy="1440"/>
          </a:xfrm>
          <a:custGeom>
            <a:avLst/>
            <a:gdLst/>
            <a:ahLst/>
            <a:rect l="l" t="t" r="r" b="b"/>
            <a:pathLst>
              <a:path w="1114" h="1">
                <a:moveTo>
                  <a:pt x="0" y="0"/>
                </a:moveTo>
                <a:lnTo>
                  <a:pt x="11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84560" y="2482920"/>
            <a:ext cx="1440" cy="331560"/>
          </a:xfrm>
          <a:custGeom>
            <a:avLst/>
            <a:gdLst/>
            <a:ahLst/>
            <a:rect l="l" t="t" r="r" b="b"/>
            <a:pathLst>
              <a:path w="1" h="921">
                <a:moveTo>
                  <a:pt x="0" y="0"/>
                </a:moveTo>
                <a:lnTo>
                  <a:pt x="0" y="9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1560" y="2482920"/>
            <a:ext cx="1440" cy="301680"/>
          </a:xfrm>
          <a:custGeom>
            <a:avLst/>
            <a:gdLst/>
            <a:ahLst/>
            <a:rect l="l" t="t" r="r" b="b"/>
            <a:pathLst>
              <a:path w="1" h="839">
                <a:moveTo>
                  <a:pt x="0" y="0"/>
                </a:moveTo>
                <a:lnTo>
                  <a:pt x="0" y="8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2160" y="2482920"/>
            <a:ext cx="1440" cy="177840"/>
          </a:xfrm>
          <a:custGeom>
            <a:avLst/>
            <a:gdLst/>
            <a:ahLst/>
            <a:rect l="l" t="t" r="r" b="b"/>
            <a:pathLst>
              <a:path w="1" h="495">
                <a:moveTo>
                  <a:pt x="0" y="0"/>
                </a:moveTo>
                <a:lnTo>
                  <a:pt x="0" y="4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5920" y="2482920"/>
            <a:ext cx="1800" cy="154080"/>
          </a:xfrm>
          <a:custGeom>
            <a:avLst/>
            <a:gdLst/>
            <a:ahLst/>
            <a:rect l="l" t="t" r="r" b="b"/>
            <a:pathLst>
              <a:path w="1" h="427">
                <a:moveTo>
                  <a:pt x="0" y="0"/>
                </a:moveTo>
                <a:lnTo>
                  <a:pt x="0" y="4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65880" y="2406600"/>
            <a:ext cx="471600" cy="1800"/>
          </a:xfrm>
          <a:custGeom>
            <a:avLst/>
            <a:gdLst/>
            <a:ahLst/>
            <a:rect l="l" t="t" r="r" b="b"/>
            <a:pathLst>
              <a:path w="1309" h="2">
                <a:moveTo>
                  <a:pt x="1308" y="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32480" y="2476440"/>
            <a:ext cx="401760" cy="1800"/>
          </a:xfrm>
          <a:custGeom>
            <a:avLst/>
            <a:gdLst/>
            <a:ahLst/>
            <a:rect l="l" t="t" r="r" b="b"/>
            <a:pathLst>
              <a:path w="1114" h="1">
                <a:moveTo>
                  <a:pt x="1113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50000" y="2476440"/>
            <a:ext cx="1800" cy="341280"/>
          </a:xfrm>
          <a:custGeom>
            <a:avLst/>
            <a:gdLst/>
            <a:ahLst/>
            <a:rect l="l" t="t" r="r" b="b"/>
            <a:pathLst>
              <a:path w="2" h="946">
                <a:moveTo>
                  <a:pt x="0" y="0"/>
                </a:moveTo>
                <a:lnTo>
                  <a:pt x="1" y="9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23000" y="2476440"/>
            <a:ext cx="1800" cy="311040"/>
          </a:xfrm>
          <a:custGeom>
            <a:avLst/>
            <a:gdLst/>
            <a:ahLst/>
            <a:rect l="l" t="t" r="r" b="b"/>
            <a:pathLst>
              <a:path w="2" h="865">
                <a:moveTo>
                  <a:pt x="0" y="0"/>
                </a:moveTo>
                <a:lnTo>
                  <a:pt x="1" y="8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02400" y="2476440"/>
            <a:ext cx="1440" cy="185760"/>
          </a:xfrm>
          <a:custGeom>
            <a:avLst/>
            <a:gdLst/>
            <a:ahLst/>
            <a:rect l="l" t="t" r="r" b="b"/>
            <a:pathLst>
              <a:path w="2" h="514">
                <a:moveTo>
                  <a:pt x="0" y="0"/>
                </a:moveTo>
                <a:lnTo>
                  <a:pt x="1" y="5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78640" y="2476440"/>
            <a:ext cx="1440" cy="163440"/>
          </a:xfrm>
          <a:custGeom>
            <a:avLst/>
            <a:gdLst/>
            <a:ahLst/>
            <a:rect l="l" t="t" r="r" b="b"/>
            <a:pathLst>
              <a:path w="2" h="452">
                <a:moveTo>
                  <a:pt x="0" y="0"/>
                </a:moveTo>
                <a:lnTo>
                  <a:pt x="1" y="45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11840" y="2406600"/>
            <a:ext cx="369720" cy="1800"/>
          </a:xfrm>
          <a:custGeom>
            <a:avLst/>
            <a:gdLst/>
            <a:ahLst/>
            <a:rect l="l" t="t" r="r" b="b"/>
            <a:pathLst>
              <a:path w="1026" h="2">
                <a:moveTo>
                  <a:pt x="1025" y="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13280" y="2476440"/>
            <a:ext cx="439920" cy="1800"/>
          </a:xfrm>
          <a:custGeom>
            <a:avLst/>
            <a:gdLst/>
            <a:ahLst/>
            <a:rect l="l" t="t" r="r" b="b"/>
            <a:pathLst>
              <a:path w="1223" h="1">
                <a:moveTo>
                  <a:pt x="1222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9120" y="2336760"/>
            <a:ext cx="1800" cy="66600"/>
          </a:xfrm>
          <a:custGeom>
            <a:avLst/>
            <a:gdLst/>
            <a:ahLst/>
            <a:rect l="l" t="t" r="r" b="b"/>
            <a:pathLst>
              <a:path w="1" h="187">
                <a:moveTo>
                  <a:pt x="0" y="18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3440" y="2270160"/>
            <a:ext cx="1440" cy="135000"/>
          </a:xfrm>
          <a:custGeom>
            <a:avLst/>
            <a:gdLst/>
            <a:ahLst/>
            <a:rect l="l" t="t" r="r" b="b"/>
            <a:pathLst>
              <a:path w="2" h="373">
                <a:moveTo>
                  <a:pt x="1" y="3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19840" y="2203560"/>
            <a:ext cx="1440" cy="199800"/>
          </a:xfrm>
          <a:custGeom>
            <a:avLst/>
            <a:gdLst/>
            <a:ahLst/>
            <a:rect l="l" t="t" r="r" b="b"/>
            <a:pathLst>
              <a:path w="1" h="555">
                <a:moveTo>
                  <a:pt x="0" y="5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27680" y="2144880"/>
            <a:ext cx="1800" cy="260280"/>
          </a:xfrm>
          <a:custGeom>
            <a:avLst/>
            <a:gdLst/>
            <a:ahLst/>
            <a:rect l="l" t="t" r="r" b="b"/>
            <a:pathLst>
              <a:path w="1" h="722">
                <a:moveTo>
                  <a:pt x="0" y="0"/>
                </a:moveTo>
                <a:lnTo>
                  <a:pt x="0" y="7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19520" y="2417760"/>
            <a:ext cx="365040" cy="1440"/>
          </a:xfrm>
          <a:custGeom>
            <a:avLst/>
            <a:gdLst/>
            <a:ahLst/>
            <a:rect l="l" t="t" r="r" b="b"/>
            <a:pathLst>
              <a:path w="1013" h="2">
                <a:moveTo>
                  <a:pt x="0" y="0"/>
                </a:moveTo>
                <a:lnTo>
                  <a:pt x="1012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46440" y="2487600"/>
            <a:ext cx="439920" cy="1440"/>
          </a:xfrm>
          <a:custGeom>
            <a:avLst/>
            <a:gdLst/>
            <a:ahLst/>
            <a:rect l="l" t="t" r="r" b="b"/>
            <a:pathLst>
              <a:path w="1223" h="1">
                <a:moveTo>
                  <a:pt x="0" y="0"/>
                </a:moveTo>
                <a:lnTo>
                  <a:pt x="122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0520" y="2341440"/>
            <a:ext cx="1440" cy="73080"/>
          </a:xfrm>
          <a:custGeom>
            <a:avLst/>
            <a:gdLst/>
            <a:ahLst/>
            <a:rect l="l" t="t" r="r" b="b"/>
            <a:pathLst>
              <a:path w="2" h="201">
                <a:moveTo>
                  <a:pt x="0" y="200"/>
                </a:moveTo>
                <a:lnTo>
                  <a:pt x="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2273400"/>
            <a:ext cx="1440" cy="141120"/>
          </a:xfrm>
          <a:custGeom>
            <a:avLst/>
            <a:gdLst/>
            <a:ahLst/>
            <a:rect l="l" t="t" r="r" b="b"/>
            <a:pathLst>
              <a:path w="2" h="392">
                <a:moveTo>
                  <a:pt x="0" y="391"/>
                </a:moveTo>
                <a:lnTo>
                  <a:pt x="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79800" y="2203560"/>
            <a:ext cx="1800" cy="209520"/>
          </a:xfrm>
          <a:custGeom>
            <a:avLst/>
            <a:gdLst/>
            <a:ahLst/>
            <a:rect l="l" t="t" r="r" b="b"/>
            <a:pathLst>
              <a:path w="2" h="583">
                <a:moveTo>
                  <a:pt x="0" y="582"/>
                </a:moveTo>
                <a:lnTo>
                  <a:pt x="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71960" y="2139840"/>
            <a:ext cx="1440" cy="276480"/>
          </a:xfrm>
          <a:custGeom>
            <a:avLst/>
            <a:gdLst/>
            <a:ahLst/>
            <a:rect l="l" t="t" r="r" b="b"/>
            <a:pathLst>
              <a:path w="1" h="768">
                <a:moveTo>
                  <a:pt x="0" y="0"/>
                </a:moveTo>
                <a:lnTo>
                  <a:pt x="0" y="7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37000" y="1928880"/>
            <a:ext cx="1800" cy="487440"/>
          </a:xfrm>
          <a:custGeom>
            <a:avLst/>
            <a:gdLst/>
            <a:ahLst/>
            <a:rect l="l" t="t" r="r" b="b"/>
            <a:pathLst>
              <a:path w="1" h="1355">
                <a:moveTo>
                  <a:pt x="0" y="0"/>
                </a:moveTo>
                <a:lnTo>
                  <a:pt x="0" y="13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83120" y="2416320"/>
            <a:ext cx="365040" cy="1440"/>
          </a:xfrm>
          <a:custGeom>
            <a:avLst/>
            <a:gdLst/>
            <a:ahLst/>
            <a:rect l="l" t="t" r="r" b="b"/>
            <a:pathLst>
              <a:path w="1016" h="2">
                <a:moveTo>
                  <a:pt x="0" y="1"/>
                </a:moveTo>
                <a:lnTo>
                  <a:pt x="10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4840" y="1971720"/>
            <a:ext cx="1800" cy="444600"/>
          </a:xfrm>
          <a:custGeom>
            <a:avLst/>
            <a:gdLst/>
            <a:ahLst/>
            <a:rect l="l" t="t" r="r" b="b"/>
            <a:pathLst>
              <a:path w="1" h="1234">
                <a:moveTo>
                  <a:pt x="0" y="0"/>
                </a:moveTo>
                <a:lnTo>
                  <a:pt x="0" y="12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60880" y="2077920"/>
            <a:ext cx="1440" cy="338400"/>
          </a:xfrm>
          <a:custGeom>
            <a:avLst/>
            <a:gdLst/>
            <a:ahLst/>
            <a:rect l="l" t="t" r="r" b="b"/>
            <a:pathLst>
              <a:path w="1" h="938">
                <a:moveTo>
                  <a:pt x="0" y="0"/>
                </a:moveTo>
                <a:lnTo>
                  <a:pt x="0" y="93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54480" y="2019240"/>
            <a:ext cx="1440" cy="395280"/>
          </a:xfrm>
          <a:custGeom>
            <a:avLst/>
            <a:gdLst/>
            <a:ahLst/>
            <a:rect l="l" t="t" r="r" b="b"/>
            <a:pathLst>
              <a:path w="1" h="1100">
                <a:moveTo>
                  <a:pt x="0" y="0"/>
                </a:moveTo>
                <a:lnTo>
                  <a:pt x="0" y="109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60840" y="1938240"/>
            <a:ext cx="1800" cy="468360"/>
          </a:xfrm>
          <a:custGeom>
            <a:avLst/>
            <a:gdLst/>
            <a:ahLst/>
            <a:rect l="l" t="t" r="r" b="b"/>
            <a:pathLst>
              <a:path w="2" h="1300">
                <a:moveTo>
                  <a:pt x="0" y="0"/>
                </a:moveTo>
                <a:lnTo>
                  <a:pt x="1" y="129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53000" y="1981080"/>
            <a:ext cx="1800" cy="425520"/>
          </a:xfrm>
          <a:custGeom>
            <a:avLst/>
            <a:gdLst/>
            <a:ahLst/>
            <a:rect l="l" t="t" r="r" b="b"/>
            <a:pathLst>
              <a:path w="2" h="1180">
                <a:moveTo>
                  <a:pt x="1" y="0"/>
                </a:moveTo>
                <a:lnTo>
                  <a:pt x="0" y="11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35520" y="2084400"/>
            <a:ext cx="1800" cy="320760"/>
          </a:xfrm>
          <a:custGeom>
            <a:avLst/>
            <a:gdLst/>
            <a:ahLst/>
            <a:rect l="l" t="t" r="r" b="b"/>
            <a:pathLst>
              <a:path w="2" h="892">
                <a:moveTo>
                  <a:pt x="1" y="0"/>
                </a:moveTo>
                <a:lnTo>
                  <a:pt x="0" y="89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43720" y="2028960"/>
            <a:ext cx="1440" cy="377640"/>
          </a:xfrm>
          <a:custGeom>
            <a:avLst/>
            <a:gdLst/>
            <a:ahLst/>
            <a:rect l="l" t="t" r="r" b="b"/>
            <a:pathLst>
              <a:path w="2" h="1048">
                <a:moveTo>
                  <a:pt x="1" y="0"/>
                </a:moveTo>
                <a:lnTo>
                  <a:pt x="0" y="104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87800" y="2484360"/>
            <a:ext cx="360360" cy="1800"/>
          </a:xfrm>
          <a:custGeom>
            <a:avLst/>
            <a:gdLst/>
            <a:ahLst/>
            <a:rect l="l" t="t" r="r" b="b"/>
            <a:pathLst>
              <a:path w="1002" h="2">
                <a:moveTo>
                  <a:pt x="0" y="0"/>
                </a:moveTo>
                <a:lnTo>
                  <a:pt x="1001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52920" y="2406600"/>
            <a:ext cx="360360" cy="1800"/>
          </a:xfrm>
          <a:custGeom>
            <a:avLst/>
            <a:gdLst/>
            <a:ahLst/>
            <a:rect l="l" t="t" r="r" b="b"/>
            <a:pathLst>
              <a:path w="1003" h="2">
                <a:moveTo>
                  <a:pt x="1002" y="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52920" y="2475000"/>
            <a:ext cx="362160" cy="1440"/>
          </a:xfrm>
          <a:custGeom>
            <a:avLst/>
            <a:gdLst/>
            <a:ahLst/>
            <a:rect l="l" t="t" r="r" b="b"/>
            <a:pathLst>
              <a:path w="1007" h="2">
                <a:moveTo>
                  <a:pt x="1006" y="0"/>
                </a:moveTo>
                <a:lnTo>
                  <a:pt x="0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48160" y="2406600"/>
            <a:ext cx="1003320" cy="11160"/>
          </a:xfrm>
          <a:custGeom>
            <a:avLst/>
            <a:gdLst/>
            <a:ahLst/>
            <a:rect l="l" t="t" r="r" b="b"/>
            <a:pathLst>
              <a:path w="2788" h="29">
                <a:moveTo>
                  <a:pt x="0" y="28"/>
                </a:moveTo>
                <a:lnTo>
                  <a:pt x="278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48160" y="2475000"/>
            <a:ext cx="1008000" cy="11160"/>
          </a:xfrm>
          <a:custGeom>
            <a:avLst/>
            <a:gdLst/>
            <a:ahLst/>
            <a:rect l="l" t="t" r="r" b="b"/>
            <a:pathLst>
              <a:path w="2798" h="30">
                <a:moveTo>
                  <a:pt x="0" y="29"/>
                </a:moveTo>
                <a:lnTo>
                  <a:pt x="279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35640" y="1890720"/>
            <a:ext cx="1440" cy="527040"/>
          </a:xfrm>
          <a:custGeom>
            <a:avLst/>
            <a:gdLst/>
            <a:ahLst/>
            <a:rect l="l" t="t" r="r" b="b"/>
            <a:pathLst>
              <a:path w="1" h="1462">
                <a:moveTo>
                  <a:pt x="0" y="0"/>
                </a:moveTo>
                <a:lnTo>
                  <a:pt x="0" y="146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67400" y="1860480"/>
            <a:ext cx="1440" cy="552600"/>
          </a:xfrm>
          <a:custGeom>
            <a:avLst/>
            <a:gdLst/>
            <a:ahLst/>
            <a:rect l="l" t="t" r="r" b="b"/>
            <a:pathLst>
              <a:path w="1" h="1536">
                <a:moveTo>
                  <a:pt x="0" y="0"/>
                </a:moveTo>
                <a:lnTo>
                  <a:pt x="0" y="15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1844640"/>
            <a:ext cx="1440" cy="569880"/>
          </a:xfrm>
          <a:custGeom>
            <a:avLst/>
            <a:gdLst/>
            <a:ahLst/>
            <a:rect l="l" t="t" r="r" b="b"/>
            <a:pathLst>
              <a:path w="1" h="1582">
                <a:moveTo>
                  <a:pt x="0" y="0"/>
                </a:moveTo>
                <a:lnTo>
                  <a:pt x="0" y="15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33800" y="1839960"/>
            <a:ext cx="1800" cy="571320"/>
          </a:xfrm>
          <a:custGeom>
            <a:avLst/>
            <a:gdLst/>
            <a:ahLst/>
            <a:rect l="l" t="t" r="r" b="b"/>
            <a:pathLst>
              <a:path w="1" h="1588">
                <a:moveTo>
                  <a:pt x="0" y="0"/>
                </a:moveTo>
                <a:lnTo>
                  <a:pt x="0" y="15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67360" y="1849320"/>
            <a:ext cx="1440" cy="561960"/>
          </a:xfrm>
          <a:custGeom>
            <a:avLst/>
            <a:gdLst/>
            <a:ahLst/>
            <a:rect l="l" t="t" r="r" b="b"/>
            <a:pathLst>
              <a:path w="1" h="1560">
                <a:moveTo>
                  <a:pt x="0" y="0"/>
                </a:moveTo>
                <a:lnTo>
                  <a:pt x="0" y="155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94440" y="1863720"/>
            <a:ext cx="1440" cy="544680"/>
          </a:xfrm>
          <a:custGeom>
            <a:avLst/>
            <a:gdLst/>
            <a:ahLst/>
            <a:rect l="l" t="t" r="r" b="b"/>
            <a:pathLst>
              <a:path w="1" h="1514">
                <a:moveTo>
                  <a:pt x="0" y="0"/>
                </a:moveTo>
                <a:lnTo>
                  <a:pt x="0" y="15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29080" y="1893960"/>
            <a:ext cx="1800" cy="512640"/>
          </a:xfrm>
          <a:custGeom>
            <a:avLst/>
            <a:gdLst/>
            <a:ahLst/>
            <a:rect l="l" t="t" r="r" b="b"/>
            <a:pathLst>
              <a:path w="1" h="1423">
                <a:moveTo>
                  <a:pt x="0" y="0"/>
                </a:moveTo>
                <a:lnTo>
                  <a:pt x="0" y="14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2040" y="4022640"/>
            <a:ext cx="8840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would the forces change in the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tie suppor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uring constru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55600" y="212760"/>
            <a:ext cx="63691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2520" y="1359000"/>
            <a:ext cx="90820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ause the bridge is symmetrical, we can just look at one half to assess the forces in the support c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an then draw a free-body diagram of this half-ar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70520" y="3854520"/>
            <a:ext cx="54000" cy="183960"/>
          </a:xfrm>
          <a:custGeom>
            <a:avLst/>
            <a:gdLst/>
            <a:ahLst/>
            <a:rect l="l" t="t" r="r" b="b"/>
            <a:pathLst>
              <a:path w="151" h="510">
                <a:moveTo>
                  <a:pt x="150" y="509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10160" y="3467160"/>
            <a:ext cx="358560" cy="385560"/>
          </a:xfrm>
          <a:custGeom>
            <a:avLst/>
            <a:gdLst/>
            <a:ahLst/>
            <a:rect l="l" t="t" r="r" b="b"/>
            <a:pathLst>
              <a:path w="996" h="1070">
                <a:moveTo>
                  <a:pt x="0" y="0"/>
                </a:moveTo>
                <a:lnTo>
                  <a:pt x="995" y="106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30880" y="3470400"/>
            <a:ext cx="591840" cy="566640"/>
          </a:xfrm>
          <a:custGeom>
            <a:avLst/>
            <a:gdLst/>
            <a:ahLst/>
            <a:rect l="l" t="t" r="r" b="b"/>
            <a:pathLst>
              <a:path w="1647" h="1574">
                <a:moveTo>
                  <a:pt x="0" y="0"/>
                </a:moveTo>
                <a:lnTo>
                  <a:pt x="1646" y="157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003640" y="3842640"/>
            <a:ext cx="578160" cy="73080"/>
          </a:xfrm>
          <a:custGeom>
            <a:avLst/>
            <a:gdLst/>
            <a:ahLst/>
            <a:rect l="l" t="t" r="r" b="b"/>
            <a:pathLst>
              <a:path w="1217" h="1">
                <a:moveTo>
                  <a:pt x="0" y="0"/>
                </a:moveTo>
                <a:lnTo>
                  <a:pt x="121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13280" y="3157560"/>
            <a:ext cx="417600" cy="309600"/>
          </a:xfrm>
          <a:custGeom>
            <a:avLst/>
            <a:gdLst/>
            <a:ahLst/>
            <a:rect l="l" t="t" r="r" b="b"/>
            <a:pathLst>
              <a:path w="1159" h="862">
                <a:moveTo>
                  <a:pt x="1158" y="861"/>
                </a:moveTo>
                <a:cubicBezTo>
                  <a:pt x="616" y="356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76720" y="3105000"/>
            <a:ext cx="428760" cy="358920"/>
          </a:xfrm>
          <a:custGeom>
            <a:avLst/>
            <a:gdLst/>
            <a:ahLst/>
            <a:rect l="l" t="t" r="r" b="b"/>
            <a:pathLst>
              <a:path w="1189" h="995">
                <a:moveTo>
                  <a:pt x="1188" y="994"/>
                </a:moveTo>
                <a:cubicBezTo>
                  <a:pt x="632" y="411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6720" y="3103560"/>
            <a:ext cx="1017720" cy="1440"/>
          </a:xfrm>
          <a:custGeom>
            <a:avLst/>
            <a:gdLst/>
            <a:ahLst/>
            <a:rect l="l" t="t" r="r" b="b"/>
            <a:pathLst>
              <a:path w="2827" h="1">
                <a:moveTo>
                  <a:pt x="0" y="0"/>
                </a:moveTo>
                <a:lnTo>
                  <a:pt x="282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5040" y="2944800"/>
            <a:ext cx="414360" cy="217440"/>
          </a:xfrm>
          <a:custGeom>
            <a:avLst/>
            <a:gdLst/>
            <a:ahLst/>
            <a:rect l="l" t="t" r="r" b="b"/>
            <a:pathLst>
              <a:path w="1152" h="604">
                <a:moveTo>
                  <a:pt x="1151" y="603"/>
                </a:moveTo>
                <a:cubicBezTo>
                  <a:pt x="553" y="182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26000" y="2838600"/>
            <a:ext cx="453960" cy="269640"/>
          </a:xfrm>
          <a:custGeom>
            <a:avLst/>
            <a:gdLst/>
            <a:ahLst/>
            <a:rect l="l" t="t" r="r" b="b"/>
            <a:pathLst>
              <a:path w="1260" h="748">
                <a:moveTo>
                  <a:pt x="1259" y="747"/>
                </a:moveTo>
                <a:cubicBezTo>
                  <a:pt x="740" y="332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94160" y="3462480"/>
            <a:ext cx="1800" cy="544320"/>
          </a:xfrm>
          <a:prstGeom prst="line">
            <a:avLst/>
          </a:prstGeom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932360" y="3974760"/>
            <a:ext cx="1440" cy="555480"/>
          </a:xfrm>
          <a:prstGeom prst="line">
            <a:avLst/>
          </a:prstGeom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54760" y="3089160"/>
            <a:ext cx="1440" cy="8287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71840" y="4589640"/>
            <a:ext cx="552600" cy="1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37040" y="3894120"/>
            <a:ext cx="41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70320" y="2917800"/>
            <a:ext cx="41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35520" y="4208400"/>
            <a:ext cx="5223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GB" sz="1800" spc="-1" strike="noStrike" baseline="-33000">
                <a:solidFill>
                  <a:srgbClr val="0000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38720" y="3544920"/>
            <a:ext cx="5223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GB" sz="1800" spc="-1" strike="noStrike" baseline="-33000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24400" y="4589640"/>
            <a:ext cx="41760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18040" y="3284640"/>
            <a:ext cx="41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5200" y="5075280"/>
            <a:ext cx="88866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simplify the analysis we can model this section as a straight line. This assumption is valid as long as we keep the distances to the pivot, H and X,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62720" y="4097160"/>
            <a:ext cx="841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iv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9" idx="1"/>
            <a:endCxn id="169" idx="0"/>
          </p:cNvCxnSpPr>
          <p:nvPr/>
        </p:nvCxnSpPr>
        <p:spPr>
          <a:xfrm rot="10800000">
            <a:off x="4996800" y="4037760"/>
            <a:ext cx="1465920" cy="232560"/>
          </a:xfrm>
          <a:prstGeom prst="curvedConnector5">
            <a:avLst>
              <a:gd name="adj1" fmla="val 49987"/>
              <a:gd name="adj2" fmla="val 49922"/>
              <a:gd name="adj3" fmla="val 49987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