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074795987317"/>
          <c:y val="0.0197920581235125"/>
          <c:w val="0.959977129788451"/>
          <c:h val="0.96004008518101"/>
        </c:manualLayout>
      </c:layout>
      <c:scatterChart>
        <c:scatterStyle val="line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Column B</c:v>
                </c:pt>
              </c:strCache>
            </c:strRef>
          </c:tx>
          <c:spPr>
            <a:solidFill>
              <a:srgbClr val="ffdd00"/>
            </a:solidFill>
            <a:ln w="36000">
              <a:solidFill>
                <a:srgbClr val="ffdd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21"/>
                <c:pt idx="0">
                  <c:v>-10</c:v>
                </c:pt>
                <c:pt idx="1">
                  <c:v>-9</c:v>
                </c:pt>
                <c:pt idx="2">
                  <c:v>-8</c:v>
                </c:pt>
                <c:pt idx="3">
                  <c:v>-7</c:v>
                </c:pt>
                <c:pt idx="4">
                  <c:v>-6</c:v>
                </c:pt>
                <c:pt idx="5">
                  <c:v>-5</c:v>
                </c:pt>
                <c:pt idx="6">
                  <c:v>-4</c:v>
                </c:pt>
                <c:pt idx="7">
                  <c:v>-3</c:v>
                </c:pt>
                <c:pt idx="8">
                  <c:v>-2</c:v>
                </c:pt>
                <c:pt idx="9">
                  <c:v>-1</c:v>
                </c:pt>
                <c:pt idx="10">
                  <c:v>0</c:v>
                </c:pt>
                <c:pt idx="11">
                  <c:v>1</c:v>
                </c:pt>
                <c:pt idx="12">
                  <c:v>2</c:v>
                </c:pt>
                <c:pt idx="13">
                  <c:v>3</c:v>
                </c:pt>
                <c:pt idx="14">
                  <c:v>4</c:v>
                </c:pt>
                <c:pt idx="15">
                  <c:v>5</c:v>
                </c:pt>
                <c:pt idx="16">
                  <c:v>6</c:v>
                </c:pt>
                <c:pt idx="17">
                  <c:v>7</c:v>
                </c:pt>
                <c:pt idx="18">
                  <c:v>8</c:v>
                </c:pt>
                <c:pt idx="19">
                  <c:v>9</c:v>
                </c:pt>
                <c:pt idx="20">
                  <c:v>10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21"/>
                <c:pt idx="0">
                  <c:v>100</c:v>
                </c:pt>
                <c:pt idx="1">
                  <c:v>81</c:v>
                </c:pt>
                <c:pt idx="2">
                  <c:v>64</c:v>
                </c:pt>
                <c:pt idx="3">
                  <c:v>49</c:v>
                </c:pt>
                <c:pt idx="4">
                  <c:v>36</c:v>
                </c:pt>
                <c:pt idx="5">
                  <c:v>25</c:v>
                </c:pt>
                <c:pt idx="6">
                  <c:v>16</c:v>
                </c:pt>
                <c:pt idx="7">
                  <c:v>9</c:v>
                </c:pt>
                <c:pt idx="8">
                  <c:v>4</c:v>
                </c:pt>
                <c:pt idx="9">
                  <c:v>1</c:v>
                </c:pt>
                <c:pt idx="10">
                  <c:v>0</c:v>
                </c:pt>
                <c:pt idx="11">
                  <c:v>1</c:v>
                </c:pt>
                <c:pt idx="12">
                  <c:v>4</c:v>
                </c:pt>
                <c:pt idx="13">
                  <c:v>9</c:v>
                </c:pt>
                <c:pt idx="14">
                  <c:v>16</c:v>
                </c:pt>
                <c:pt idx="15">
                  <c:v>25</c:v>
                </c:pt>
                <c:pt idx="16">
                  <c:v>36</c:v>
                </c:pt>
                <c:pt idx="17">
                  <c:v>49</c:v>
                </c:pt>
                <c:pt idx="18">
                  <c:v>64</c:v>
                </c:pt>
                <c:pt idx="19">
                  <c:v>81</c:v>
                </c:pt>
                <c:pt idx="20">
                  <c:v>100</c:v>
                </c:pt>
              </c:numCache>
            </c:numRef>
          </c:yVal>
          <c:smooth val="1"/>
        </c:ser>
        <c:axId val="28258960"/>
        <c:axId val="67634595"/>
      </c:scatterChart>
      <c:valAx>
        <c:axId val="282589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34595"/>
        <c:crossesAt val="0"/>
        <c:crossBetween val="midCat"/>
      </c:valAx>
      <c:valAx>
        <c:axId val="67634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58960"/>
        <c:crossesAt val="0"/>
        <c:crossBetween val="midCat"/>
      </c:valAx>
      <c:spPr>
        <a:noFill/>
        <a:ln w="0">
          <a:solidFill>
            <a:srgbClr val="b3b3b3"/>
          </a:solidFill>
        </a:ln>
      </c:spPr>
    </c:plotArea>
    <c:plotVisOnly val="0"/>
    <c:dispBlanksAs val="span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A601B-832E-4260-94B5-EA2A6D4E0D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B3D-3D27-48AC-9039-F9BE4A36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480-50CC-4003-ACB8-C4810817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C85-8614-4EB6-9D67-17A549ED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81C-0367-4400-9726-516B0688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0DC-9096-4B08-B280-3323E1A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539-D583-4103-9989-AAED68E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969-050E-4A0D-A2C4-FD0B825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BB5-2118-4DC8-9608-1E30E67E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FA1-587B-47E8-8F7C-ADD2143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B46-2B23-46E0-8BFE-6D75EDE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987-4FC8-4A7A-8313-1D56FC2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D88-73E2-4597-ABA9-57EA63A9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7BA6C-B674-425B-8BC1-5289B55B5A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40680" y="135000"/>
            <a:ext cx="85572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680" y="220680"/>
            <a:ext cx="1800360" cy="38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435400"/>
            <a:ext cx="100807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80"/>
                </a:solidFill>
                <a:latin typeface="Times New Roman"/>
              </a:rPr>
              <a:t>BRIDG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yne Bridge, Newcas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6880" y="4648320"/>
            <a:ext cx="3519360" cy="2349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986440" y="4633920"/>
            <a:ext cx="349740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6880" y="2374920"/>
            <a:ext cx="942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Tyne Bridge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cas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8520" y="3184560"/>
            <a:ext cx="90979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02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pened in 19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Design by Mott, Hay and Anderson, based on their design of the Sydney Harbour Bridge in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When it was opened by King George V it was the longest single-span bridge in the U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87280" y="4019400"/>
          <a:ext cx="6926400" cy="2873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1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851120" y="1347840"/>
            <a:ext cx="3935160" cy="276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625760" y="1949400"/>
            <a:ext cx="4470120" cy="221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51520" y="1527120"/>
            <a:ext cx="40384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hape of the bridge arch can be approximated to an upside-down quadrat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4160" y="4033800"/>
            <a:ext cx="2224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0" lang="en-GB" sz="24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1680" y="4027320"/>
            <a:ext cx="1493640" cy="244800"/>
          </a:xfrm>
          <a:custGeom>
            <a:avLst/>
            <a:gdLst/>
            <a:ahLst/>
            <a:rect l="l" t="t" r="r" b="b"/>
            <a:pathLst>
              <a:path w="4150" h="677">
                <a:moveTo>
                  <a:pt x="4149" y="67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62680" y="4492800"/>
            <a:ext cx="1825560" cy="353880"/>
          </a:xfrm>
          <a:custGeom>
            <a:avLst/>
            <a:gdLst/>
            <a:ahLst/>
            <a:rect l="l" t="t" r="r" b="b"/>
            <a:pathLst>
              <a:path w="5072" h="984">
                <a:moveTo>
                  <a:pt x="5071" y="0"/>
                </a:moveTo>
                <a:lnTo>
                  <a:pt x="0" y="98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479680" y="1765440"/>
            <a:ext cx="4470480" cy="22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9680" y="4546440"/>
            <a:ext cx="915984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yne Bridge has a span of 160m and a height of 6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dge deck intersects the arch 26m above the water and is 121m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equation of the bridge deck in relation to the axes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1784520"/>
            <a:ext cx="2003400" cy="1440"/>
          </a:xfrm>
          <a:custGeom>
            <a:avLst/>
            <a:gdLst/>
            <a:ahLst/>
            <a:rect l="l" t="t" r="r" b="b"/>
            <a:pathLst>
              <a:path w="5563" h="1">
                <a:moveTo>
                  <a:pt x="0" y="0"/>
                </a:moveTo>
                <a:lnTo>
                  <a:pt x="55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02080" y="4065480"/>
            <a:ext cx="4208400" cy="1800"/>
          </a:xfrm>
          <a:custGeom>
            <a:avLst/>
            <a:gdLst/>
            <a:ahLst/>
            <a:rect l="l" t="t" r="r" b="b"/>
            <a:pathLst>
              <a:path w="11690" h="1">
                <a:moveTo>
                  <a:pt x="0" y="0"/>
                </a:moveTo>
                <a:lnTo>
                  <a:pt x="1168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0120" y="1778040"/>
            <a:ext cx="1440" cy="2146320"/>
          </a:xfrm>
          <a:custGeom>
            <a:avLst/>
            <a:gdLst/>
            <a:ahLst/>
            <a:rect l="l" t="t" r="r" b="b"/>
            <a:pathLst>
              <a:path w="1" h="5964">
                <a:moveTo>
                  <a:pt x="0" y="0"/>
                </a:moveTo>
                <a:lnTo>
                  <a:pt x="0" y="596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73280" y="2968200"/>
            <a:ext cx="4321080" cy="34920"/>
          </a:xfrm>
          <a:prstGeom prst="line">
            <a:avLst/>
          </a:prstGeom>
          <a:ln w="54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1784520"/>
            <a:ext cx="1440" cy="1992240"/>
          </a:xfrm>
          <a:custGeom>
            <a:avLst/>
            <a:gdLst/>
            <a:ahLst/>
            <a:rect l="l" t="t" r="r" b="b"/>
            <a:pathLst>
              <a:path w="1" h="5532">
                <a:moveTo>
                  <a:pt x="0" y="0"/>
                </a:moveTo>
                <a:lnTo>
                  <a:pt x="0" y="55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0160" y="3213000"/>
            <a:ext cx="3086280" cy="1800"/>
          </a:xfrm>
          <a:custGeom>
            <a:avLst/>
            <a:gdLst/>
            <a:ahLst/>
            <a:rect l="l" t="t" r="r" b="b"/>
            <a:pathLst>
              <a:path w="8571" h="1">
                <a:moveTo>
                  <a:pt x="0" y="0"/>
                </a:moveTo>
                <a:lnTo>
                  <a:pt x="85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05720" y="2986200"/>
            <a:ext cx="1440" cy="938160"/>
          </a:xfrm>
          <a:custGeom>
            <a:avLst/>
            <a:gdLst/>
            <a:ahLst/>
            <a:rect l="l" t="t" r="r" b="b"/>
            <a:pathLst>
              <a:path w="1" h="2608">
                <a:moveTo>
                  <a:pt x="0" y="0"/>
                </a:moveTo>
                <a:lnTo>
                  <a:pt x="0" y="26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21400" y="2004840"/>
            <a:ext cx="12654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05720" y="3382920"/>
            <a:ext cx="1265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60960" y="3198960"/>
            <a:ext cx="1265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2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59400" y="3738600"/>
            <a:ext cx="1265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3160" y="1450800"/>
            <a:ext cx="4971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35440" y="3511440"/>
            <a:ext cx="496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38440" y="1592280"/>
            <a:ext cx="4470480" cy="221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2757600" y="3757320"/>
            <a:ext cx="4087800" cy="12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3440" y="1784520"/>
            <a:ext cx="1440" cy="1990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11760" y="3697200"/>
            <a:ext cx="497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65800" y="1706400"/>
            <a:ext cx="4968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5400" y="1582560"/>
            <a:ext cx="114120" cy="113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71920" y="1584360"/>
            <a:ext cx="114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22960" y="1449360"/>
            <a:ext cx="68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1405080"/>
            <a:ext cx="4208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5280" y="3795840"/>
            <a:ext cx="511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95920" y="3710160"/>
            <a:ext cx="10944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36520" y="4392720"/>
            <a:ext cx="7421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A: x=80m, y=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B: x=-80m, y=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C: x=0, y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bx + c, find a,b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51000" y="1322280"/>
            <a:ext cx="74214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A: x=80m, y=60m ........ 60 = (80)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+ 80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B: x=60.5m, y=26m ..... 26 = (-80)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+ -80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int C: x=0, y=0 .................. 0 = 0 + 0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0 = 6400a + 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0 = 6400a + -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ultaneous equations =&gt; a = 0.009, 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tion of arch: y = 0.009x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