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CE4-CFC7-4A3A-8F20-8BF2EFFE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F89-800F-4980-BEF6-F351EED3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F05-AA5C-42ED-90EE-6FD796F2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DFD-6F0E-4458-BC57-86909445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122B-37C2-42FC-8F14-D42B010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03B-B9A1-4C4D-A14A-23D40DB3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E99-D43D-4AF6-BDEB-8A2827BB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F30-FA22-4D2E-A441-DBD63A5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5B4-6365-4415-9BDC-D5E4954F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D43-B068-4225-9078-D42BA07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DA2-335E-4352-B8A4-F14A9E7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03D-5987-4775-B3E4-779406C7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6E088-2DA0-438E-8425-4D2522E2C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40680" y="135000"/>
            <a:ext cx="855720" cy="1152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680" y="220680"/>
            <a:ext cx="1800360" cy="38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435400"/>
            <a:ext cx="100807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0080"/>
                </a:solidFill>
                <a:latin typeface="Times New Roman"/>
              </a:rPr>
              <a:t>BRIDG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hematical Bridge, Cam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7160" y="4767120"/>
            <a:ext cx="3809880" cy="23241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965920" y="4759200"/>
            <a:ext cx="384804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159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5680" y="1776240"/>
            <a:ext cx="94248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Mathematical Bridg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ens' College, Cambri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200" y="2900520"/>
            <a:ext cx="909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riginally built in 1749 by James Essex the You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Design by William Ethe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opular myth that it was designed by Sir Isaac Newton without any connections at the j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ot true, the bridge has always had connec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Used to be screws which were less visible but the bridge was completely rebuilt in 1905 and larger, more visible bolts we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73280" y="-880920"/>
            <a:ext cx="5521320" cy="3682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6200" y="3170160"/>
            <a:ext cx="52452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'Tangent and radial trus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Arch of bridge describes arc of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ain members are tangent to th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adial members provide s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9240" y="1071720"/>
            <a:ext cx="6346800" cy="6078240"/>
          </a:xfrm>
          <a:prstGeom prst="ellipse">
            <a:avLst/>
          </a:prstGeom>
          <a:noFill/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41720" y="888840"/>
            <a:ext cx="298440" cy="640080"/>
          </a:xfrm>
          <a:custGeom>
            <a:avLst/>
            <a:gdLst/>
            <a:ahLst/>
            <a:rect l="l" t="t" r="r" b="b"/>
            <a:pathLst>
              <a:path w="830" h="1778">
                <a:moveTo>
                  <a:pt x="829" y="0"/>
                </a:moveTo>
                <a:lnTo>
                  <a:pt x="0" y="1777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19560" y="789120"/>
            <a:ext cx="647640" cy="874440"/>
          </a:xfrm>
          <a:custGeom>
            <a:avLst/>
            <a:gdLst/>
            <a:ahLst/>
            <a:rect l="l" t="t" r="r" b="b"/>
            <a:pathLst>
              <a:path w="1798" h="2430">
                <a:moveTo>
                  <a:pt x="1797" y="0"/>
                </a:moveTo>
                <a:lnTo>
                  <a:pt x="0" y="2429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97320" y="689040"/>
            <a:ext cx="1144440" cy="1066680"/>
          </a:xfrm>
          <a:custGeom>
            <a:avLst/>
            <a:gdLst/>
            <a:ahLst/>
            <a:rect l="l" t="t" r="r" b="b"/>
            <a:pathLst>
              <a:path w="3180" h="2962">
                <a:moveTo>
                  <a:pt x="0" y="2961"/>
                </a:moveTo>
                <a:lnTo>
                  <a:pt x="3179" y="0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05240" y="547560"/>
            <a:ext cx="1905120" cy="1202040"/>
          </a:xfrm>
          <a:custGeom>
            <a:avLst/>
            <a:gdLst/>
            <a:ahLst/>
            <a:rect l="l" t="t" r="r" b="b"/>
            <a:pathLst>
              <a:path w="5293" h="3338">
                <a:moveTo>
                  <a:pt x="5292" y="0"/>
                </a:moveTo>
                <a:lnTo>
                  <a:pt x="0" y="3337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33600" y="590400"/>
            <a:ext cx="2687760" cy="1059120"/>
          </a:xfrm>
          <a:custGeom>
            <a:avLst/>
            <a:gdLst/>
            <a:ahLst/>
            <a:rect l="l" t="t" r="r" b="b"/>
            <a:pathLst>
              <a:path w="7464" h="2943">
                <a:moveTo>
                  <a:pt x="7463" y="0"/>
                </a:moveTo>
                <a:lnTo>
                  <a:pt x="0" y="2942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12920" y="746280"/>
            <a:ext cx="3675240" cy="696600"/>
          </a:xfrm>
          <a:custGeom>
            <a:avLst/>
            <a:gdLst/>
            <a:ahLst/>
            <a:rect l="l" t="t" r="r" b="b"/>
            <a:pathLst>
              <a:path w="10209" h="1936">
                <a:moveTo>
                  <a:pt x="10208" y="0"/>
                </a:moveTo>
                <a:lnTo>
                  <a:pt x="0" y="1935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0240" y="1052640"/>
            <a:ext cx="4934160" cy="1440"/>
          </a:xfrm>
          <a:custGeom>
            <a:avLst/>
            <a:gdLst/>
            <a:ahLst/>
            <a:rect l="l" t="t" r="r" b="b"/>
            <a:pathLst>
              <a:path w="13704" h="1">
                <a:moveTo>
                  <a:pt x="13703" y="0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29280" y="746280"/>
            <a:ext cx="3539880" cy="682560"/>
          </a:xfrm>
          <a:custGeom>
            <a:avLst/>
            <a:gdLst/>
            <a:ahLst/>
            <a:rect l="l" t="t" r="r" b="b"/>
            <a:pathLst>
              <a:path w="9834" h="1896">
                <a:moveTo>
                  <a:pt x="9833" y="1895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97520" y="604800"/>
            <a:ext cx="2638440" cy="1052640"/>
          </a:xfrm>
          <a:custGeom>
            <a:avLst/>
            <a:gdLst/>
            <a:ahLst/>
            <a:rect l="l" t="t" r="r" b="b"/>
            <a:pathLst>
              <a:path w="7327" h="2923">
                <a:moveTo>
                  <a:pt x="0" y="0"/>
                </a:moveTo>
                <a:lnTo>
                  <a:pt x="7326" y="2922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08520" y="561960"/>
            <a:ext cx="1819440" cy="1201680"/>
          </a:xfrm>
          <a:custGeom>
            <a:avLst/>
            <a:gdLst/>
            <a:ahLst/>
            <a:rect l="l" t="t" r="r" b="b"/>
            <a:pathLst>
              <a:path w="5055" h="3338">
                <a:moveTo>
                  <a:pt x="0" y="0"/>
                </a:moveTo>
                <a:lnTo>
                  <a:pt x="5054" y="3337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1960" y="674640"/>
            <a:ext cx="1138320" cy="1066680"/>
          </a:xfrm>
          <a:custGeom>
            <a:avLst/>
            <a:gdLst/>
            <a:ahLst/>
            <a:rect l="l" t="t" r="r" b="b"/>
            <a:pathLst>
              <a:path w="3161" h="2963">
                <a:moveTo>
                  <a:pt x="0" y="0"/>
                </a:moveTo>
                <a:lnTo>
                  <a:pt x="3160" y="2962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94440" y="789120"/>
            <a:ext cx="639720" cy="868320"/>
          </a:xfrm>
          <a:custGeom>
            <a:avLst/>
            <a:gdLst/>
            <a:ahLst/>
            <a:rect l="l" t="t" r="r" b="b"/>
            <a:pathLst>
              <a:path w="1778" h="2410">
                <a:moveTo>
                  <a:pt x="0" y="0"/>
                </a:moveTo>
                <a:lnTo>
                  <a:pt x="1777" y="2409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0040" y="874800"/>
            <a:ext cx="277920" cy="576000"/>
          </a:xfrm>
          <a:custGeom>
            <a:avLst/>
            <a:gdLst/>
            <a:ahLst/>
            <a:rect l="l" t="t" r="r" b="b"/>
            <a:pathLst>
              <a:path w="771" h="1600">
                <a:moveTo>
                  <a:pt x="770" y="1599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1322280"/>
            <a:ext cx="433440" cy="455760"/>
          </a:xfrm>
          <a:custGeom>
            <a:avLst/>
            <a:gdLst/>
            <a:ahLst/>
            <a:rect l="l" t="t" r="r" b="b"/>
            <a:pathLst>
              <a:path w="1206" h="1266">
                <a:moveTo>
                  <a:pt x="1205" y="1265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60840" y="825480"/>
            <a:ext cx="306360" cy="633600"/>
          </a:xfrm>
          <a:custGeom>
            <a:avLst/>
            <a:gdLst/>
            <a:ahLst/>
            <a:rect l="l" t="t" r="r" b="b"/>
            <a:pathLst>
              <a:path w="850" h="1758">
                <a:moveTo>
                  <a:pt x="0" y="0"/>
                </a:moveTo>
                <a:lnTo>
                  <a:pt x="849" y="1757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06760" y="668160"/>
            <a:ext cx="157320" cy="570240"/>
          </a:xfrm>
          <a:custGeom>
            <a:avLst/>
            <a:gdLst/>
            <a:ahLst/>
            <a:rect l="l" t="t" r="r" b="b"/>
            <a:pathLst>
              <a:path w="436" h="1581">
                <a:moveTo>
                  <a:pt x="0" y="0"/>
                </a:moveTo>
                <a:lnTo>
                  <a:pt x="435" y="1580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32520" y="539640"/>
            <a:ext cx="42840" cy="576360"/>
          </a:xfrm>
          <a:custGeom>
            <a:avLst/>
            <a:gdLst/>
            <a:ahLst/>
            <a:rect l="l" t="t" r="r" b="b"/>
            <a:pathLst>
              <a:path w="120" h="1600">
                <a:moveTo>
                  <a:pt x="0" y="0"/>
                </a:moveTo>
                <a:lnTo>
                  <a:pt x="119" y="1599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07160" y="547560"/>
            <a:ext cx="57240" cy="568440"/>
          </a:xfrm>
          <a:custGeom>
            <a:avLst/>
            <a:gdLst/>
            <a:ahLst/>
            <a:rect l="l" t="t" r="r" b="b"/>
            <a:pathLst>
              <a:path w="159" h="1580">
                <a:moveTo>
                  <a:pt x="158" y="0"/>
                </a:moveTo>
                <a:lnTo>
                  <a:pt x="0" y="1579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1960" y="689040"/>
            <a:ext cx="163440" cy="554040"/>
          </a:xfrm>
          <a:custGeom>
            <a:avLst/>
            <a:gdLst/>
            <a:ahLst/>
            <a:rect l="l" t="t" r="r" b="b"/>
            <a:pathLst>
              <a:path w="456" h="1541">
                <a:moveTo>
                  <a:pt x="455" y="0"/>
                </a:moveTo>
                <a:lnTo>
                  <a:pt x="0" y="1540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4440" y="825480"/>
            <a:ext cx="306360" cy="668520"/>
          </a:xfrm>
          <a:custGeom>
            <a:avLst/>
            <a:gdLst/>
            <a:ahLst/>
            <a:rect l="l" t="t" r="r" b="b"/>
            <a:pathLst>
              <a:path w="850" h="1857">
                <a:moveTo>
                  <a:pt x="849" y="0"/>
                </a:moveTo>
                <a:lnTo>
                  <a:pt x="0" y="1856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78640" y="1285920"/>
            <a:ext cx="476280" cy="533520"/>
          </a:xfrm>
          <a:custGeom>
            <a:avLst/>
            <a:gdLst/>
            <a:ahLst/>
            <a:rect l="l" t="t" r="r" b="b"/>
            <a:pathLst>
              <a:path w="1324" h="1482">
                <a:moveTo>
                  <a:pt x="1323" y="0"/>
                </a:moveTo>
                <a:lnTo>
                  <a:pt x="0" y="1481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98800" y="824040"/>
            <a:ext cx="1440" cy="639720"/>
          </a:xfrm>
          <a:custGeom>
            <a:avLst/>
            <a:gdLst/>
            <a:ahLst/>
            <a:rect l="l" t="t" r="r" b="b"/>
            <a:pathLst>
              <a:path w="1" h="1778">
                <a:moveTo>
                  <a:pt x="0" y="0"/>
                </a:moveTo>
                <a:lnTo>
                  <a:pt x="0" y="1777"/>
                </a:lnTo>
              </a:path>
            </a:pathLst>
          </a:cu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54920" y="817560"/>
            <a:ext cx="1800" cy="668520"/>
          </a:xfrm>
          <a:custGeom>
            <a:avLst/>
            <a:gdLst/>
            <a:ahLst/>
            <a:rect l="l" t="t" r="r" b="b"/>
            <a:pathLst>
              <a:path w="1" h="1857">
                <a:moveTo>
                  <a:pt x="0" y="0"/>
                </a:moveTo>
                <a:lnTo>
                  <a:pt x="0" y="1856"/>
                </a:lnTo>
              </a:path>
            </a:pathLst>
          </a:cu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06720" y="547560"/>
            <a:ext cx="2119320" cy="398520"/>
          </a:xfrm>
          <a:custGeom>
            <a:avLst/>
            <a:gdLst/>
            <a:ahLst/>
            <a:rect l="l" t="t" r="r" b="b"/>
            <a:pathLst>
              <a:path w="5885" h="1107">
                <a:moveTo>
                  <a:pt x="0" y="1106"/>
                </a:moveTo>
                <a:lnTo>
                  <a:pt x="5884" y="0"/>
                </a:lnTo>
              </a:path>
            </a:pathLst>
          </a:cu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4400" y="547560"/>
            <a:ext cx="2076120" cy="405000"/>
          </a:xfrm>
          <a:custGeom>
            <a:avLst/>
            <a:gdLst/>
            <a:ahLst/>
            <a:rect l="l" t="t" r="r" b="b"/>
            <a:pathLst>
              <a:path w="5767" h="1126">
                <a:moveTo>
                  <a:pt x="5766" y="1125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32520" y="547560"/>
            <a:ext cx="739800" cy="7920"/>
          </a:xfrm>
          <a:custGeom>
            <a:avLst/>
            <a:gdLst/>
            <a:ahLst/>
            <a:rect l="l" t="t" r="r" b="b"/>
            <a:pathLst>
              <a:path w="2055" h="21">
                <a:moveTo>
                  <a:pt x="0" y="0"/>
                </a:moveTo>
                <a:lnTo>
                  <a:pt x="2054" y="20"/>
                </a:lnTo>
              </a:path>
            </a:pathLst>
          </a:cu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02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203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304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405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6"/>
                            </p:stCondLst>
                            <p:childTnLst>
                              <p:par>
                                <p:cTn id="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607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708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809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91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dur="indefinite" fill="hold">
                            <p:stCondLst>
                              <p:cond delay="101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1112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1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102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203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304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405"/>
                            </p:stCondLst>
                            <p:childTnLst>
                              <p:par>
                                <p:cTn id="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506"/>
                            </p:stCondLst>
                            <p:childTnLst>
                              <p:par>
                                <p:cTn id="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607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06920" y="2957400"/>
            <a:ext cx="853920" cy="938160"/>
          </a:xfrm>
          <a:custGeom>
            <a:avLst/>
            <a:gdLst/>
            <a:ahLst/>
            <a:rect l="l" t="t" r="r" b="b"/>
            <a:pathLst>
              <a:path w="2371" h="2607">
                <a:moveTo>
                  <a:pt x="40" y="1264"/>
                </a:moveTo>
                <a:cubicBezTo>
                  <a:pt x="1343" y="0"/>
                  <a:pt x="2370" y="1303"/>
                  <a:pt x="2370" y="1303"/>
                </a:cubicBezTo>
                <a:lnTo>
                  <a:pt x="1224" y="2606"/>
                </a:lnTo>
                <a:lnTo>
                  <a:pt x="40" y="1303"/>
                </a:lnTo>
                <a:lnTo>
                  <a:pt x="0" y="1264"/>
                </a:lnTo>
                <a:lnTo>
                  <a:pt x="40" y="126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90720" y="873000"/>
            <a:ext cx="6346800" cy="6078600"/>
          </a:xfrm>
          <a:prstGeom prst="ellipse">
            <a:avLst/>
          </a:prstGeom>
          <a:noFill/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28800" y="689040"/>
            <a:ext cx="301680" cy="63972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905200" y="590400"/>
            <a:ext cx="650880" cy="874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86200" y="490320"/>
            <a:ext cx="1144440" cy="106812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90880" y="349200"/>
            <a:ext cx="1908000" cy="1201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921040" y="392040"/>
            <a:ext cx="2689200" cy="10587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700000" y="547560"/>
            <a:ext cx="3678120" cy="6969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85880" y="853920"/>
            <a:ext cx="4935600" cy="1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16360" y="545760"/>
            <a:ext cx="3543120" cy="685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84600" y="406440"/>
            <a:ext cx="2637000" cy="10526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95960" y="363600"/>
            <a:ext cx="1819080" cy="1201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99040" y="476280"/>
            <a:ext cx="1138320" cy="1066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3320" y="590400"/>
            <a:ext cx="639720" cy="8668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105680" y="672840"/>
            <a:ext cx="280800" cy="5792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71840" y="1120320"/>
            <a:ext cx="436320" cy="459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7920" y="625320"/>
            <a:ext cx="306360" cy="6321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4200" y="469800"/>
            <a:ext cx="156960" cy="568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9600" y="341280"/>
            <a:ext cx="42840" cy="5763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392440" y="349200"/>
            <a:ext cx="60120" cy="568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97240" y="490680"/>
            <a:ext cx="166680" cy="5540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580080" y="625320"/>
            <a:ext cx="309600" cy="6685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64280" y="1087560"/>
            <a:ext cx="479520" cy="5331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7680" y="625320"/>
            <a:ext cx="1440" cy="6400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619200"/>
            <a:ext cx="1440" cy="66816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5600" y="345960"/>
            <a:ext cx="2117520" cy="40176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450040" y="347400"/>
            <a:ext cx="2079360" cy="4078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9600" y="349200"/>
            <a:ext cx="739800" cy="7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11400" y="1576080"/>
            <a:ext cx="20368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32440" y="1576080"/>
            <a:ext cx="20746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84480" y="1577880"/>
            <a:ext cx="3981600" cy="14400"/>
          </a:xfrm>
          <a:custGeom>
            <a:avLst/>
            <a:gdLst/>
            <a:ahLst/>
            <a:rect l="l" t="t" r="r" b="b"/>
            <a:pathLst>
              <a:path w="11058" h="40">
                <a:moveTo>
                  <a:pt x="0" y="39"/>
                </a:moveTo>
                <a:lnTo>
                  <a:pt x="11057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75360" y="2871720"/>
            <a:ext cx="412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2160" y="1179360"/>
            <a:ext cx="11937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46840" y="909720"/>
            <a:ext cx="1440" cy="2900160"/>
          </a:xfrm>
          <a:custGeom>
            <a:avLst/>
            <a:gdLst/>
            <a:ahLst/>
            <a:rect l="l" t="t" r="r" b="b"/>
            <a:pathLst>
              <a:path w="1" h="8057">
                <a:moveTo>
                  <a:pt x="0" y="8056"/>
                </a:move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7040" y="2060640"/>
            <a:ext cx="10954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95680" y="2673360"/>
            <a:ext cx="539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41880" y="2673360"/>
            <a:ext cx="540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5320" y="4805280"/>
            <a:ext cx="8174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you know the radius of the circle and the angle at the centre, how would you find the span of the b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06920" y="4265640"/>
            <a:ext cx="853920" cy="938160"/>
          </a:xfrm>
          <a:custGeom>
            <a:avLst/>
            <a:gdLst/>
            <a:ahLst/>
            <a:rect l="l" t="t" r="r" b="b"/>
            <a:pathLst>
              <a:path w="2371" h="2607">
                <a:moveTo>
                  <a:pt x="40" y="1264"/>
                </a:moveTo>
                <a:cubicBezTo>
                  <a:pt x="1343" y="0"/>
                  <a:pt x="2370" y="1303"/>
                  <a:pt x="2370" y="1303"/>
                </a:cubicBezTo>
                <a:lnTo>
                  <a:pt x="1224" y="2606"/>
                </a:lnTo>
                <a:lnTo>
                  <a:pt x="40" y="1303"/>
                </a:lnTo>
                <a:lnTo>
                  <a:pt x="0" y="1264"/>
                </a:lnTo>
                <a:lnTo>
                  <a:pt x="40" y="126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28800" y="1998720"/>
            <a:ext cx="301680" cy="63972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05200" y="1898640"/>
            <a:ext cx="650880" cy="874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86200" y="1798560"/>
            <a:ext cx="1144440" cy="10684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90880" y="1657440"/>
            <a:ext cx="1908000" cy="1201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921040" y="1700280"/>
            <a:ext cx="2689200" cy="10587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700000" y="1855800"/>
            <a:ext cx="3678120" cy="6969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85880" y="2162160"/>
            <a:ext cx="4935600" cy="14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816360" y="1854000"/>
            <a:ext cx="3543120" cy="685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1714680"/>
            <a:ext cx="2637000" cy="10522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5960" y="1671480"/>
            <a:ext cx="1819080" cy="12020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1784520"/>
            <a:ext cx="1138320" cy="1066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3320" y="1898640"/>
            <a:ext cx="639720" cy="8668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7105680" y="1981080"/>
            <a:ext cx="280800" cy="5796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571840" y="2428920"/>
            <a:ext cx="436320" cy="458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7920" y="1933560"/>
            <a:ext cx="306360" cy="63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4200" y="1778040"/>
            <a:ext cx="156960" cy="568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19600" y="1649520"/>
            <a:ext cx="42840" cy="576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392440" y="1657440"/>
            <a:ext cx="60120" cy="5680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97240" y="1798560"/>
            <a:ext cx="166680" cy="5540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580080" y="1933560"/>
            <a:ext cx="309600" cy="6685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064280" y="2395440"/>
            <a:ext cx="479520" cy="5335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87680" y="1933560"/>
            <a:ext cx="1440" cy="6397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42360" y="1927080"/>
            <a:ext cx="1440" cy="6685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595600" y="1654200"/>
            <a:ext cx="2117520" cy="40176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450040" y="1655640"/>
            <a:ext cx="2079360" cy="4082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9600" y="1657440"/>
            <a:ext cx="739800" cy="7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11400" y="2883960"/>
            <a:ext cx="20368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32440" y="2883960"/>
            <a:ext cx="20746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084480" y="2883960"/>
            <a:ext cx="3979800" cy="17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75360" y="4179960"/>
            <a:ext cx="412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5680" y="3981600"/>
            <a:ext cx="5396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41880" y="3981600"/>
            <a:ext cx="540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" y="212760"/>
            <a:ext cx="37958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5280" y="2131920"/>
            <a:ext cx="1440" cy="782640"/>
          </a:xfrm>
          <a:prstGeom prst="line">
            <a:avLst/>
          </a:prstGeom>
          <a:ln w="36000">
            <a:solidFill>
              <a:srgbClr val="8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18040" y="2444760"/>
            <a:ext cx="1293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dc2300"/>
                </a:solidFill>
                <a:latin typeface="Times New Roman"/>
              </a:rPr>
              <a:t>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08160" y="5402160"/>
            <a:ext cx="71229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you know the radius and the angle, how would you calculate the clearance of the b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06920" y="2957400"/>
            <a:ext cx="853920" cy="938160"/>
          </a:xfrm>
          <a:custGeom>
            <a:avLst/>
            <a:gdLst/>
            <a:ahLst/>
            <a:rect l="l" t="t" r="r" b="b"/>
            <a:pathLst>
              <a:path w="2371" h="2607">
                <a:moveTo>
                  <a:pt x="40" y="1264"/>
                </a:moveTo>
                <a:cubicBezTo>
                  <a:pt x="1343" y="0"/>
                  <a:pt x="2370" y="1303"/>
                  <a:pt x="2370" y="1303"/>
                </a:cubicBezTo>
                <a:lnTo>
                  <a:pt x="1224" y="2606"/>
                </a:lnTo>
                <a:lnTo>
                  <a:pt x="40" y="1303"/>
                </a:lnTo>
                <a:lnTo>
                  <a:pt x="0" y="1264"/>
                </a:lnTo>
                <a:lnTo>
                  <a:pt x="40" y="126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706840" y="674640"/>
            <a:ext cx="272880" cy="5828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05200" y="590400"/>
            <a:ext cx="650880" cy="874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986200" y="490320"/>
            <a:ext cx="1144440" cy="106812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90880" y="349200"/>
            <a:ext cx="1908000" cy="1201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921040" y="392040"/>
            <a:ext cx="2689200" cy="10587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00000" y="547560"/>
            <a:ext cx="3678120" cy="69696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85880" y="852480"/>
            <a:ext cx="4943520" cy="14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816360" y="545760"/>
            <a:ext cx="3543120" cy="68580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84600" y="406440"/>
            <a:ext cx="2637000" cy="10526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5960" y="363600"/>
            <a:ext cx="1819080" cy="1201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99040" y="476280"/>
            <a:ext cx="1138320" cy="10666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3320" y="590400"/>
            <a:ext cx="639720" cy="86688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7106760" y="672840"/>
            <a:ext cx="281160" cy="579240"/>
          </a:xfrm>
          <a:prstGeom prst="line">
            <a:avLst/>
          </a:prstGeom>
          <a:ln w="360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72920" y="1122480"/>
            <a:ext cx="436680" cy="458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7400" y="631800"/>
            <a:ext cx="326880" cy="6271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79800" y="490680"/>
            <a:ext cx="171360" cy="5475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341280"/>
            <a:ext cx="51120" cy="5763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93880" y="355680"/>
            <a:ext cx="66600" cy="5619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997240" y="490680"/>
            <a:ext cx="181080" cy="5554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581520" y="639720"/>
            <a:ext cx="328680" cy="6541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064280" y="1089000"/>
            <a:ext cx="479520" cy="53352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87680" y="625320"/>
            <a:ext cx="1440" cy="6400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42360" y="619200"/>
            <a:ext cx="1440" cy="66816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595600" y="347400"/>
            <a:ext cx="2117520" cy="40140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450040" y="347400"/>
            <a:ext cx="2079360" cy="4078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9600" y="349200"/>
            <a:ext cx="739800" cy="7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011400" y="1576080"/>
            <a:ext cx="20368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32440" y="1576080"/>
            <a:ext cx="2074680" cy="232092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97120" y="2673360"/>
            <a:ext cx="540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41880" y="2673360"/>
            <a:ext cx="540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90720" y="873000"/>
            <a:ext cx="6346800" cy="6078600"/>
          </a:xfrm>
          <a:prstGeom prst="ellipse">
            <a:avLst/>
          </a:prstGeom>
          <a:noFill/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538440" y="1220400"/>
            <a:ext cx="1509840" cy="266220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49720" y="993600"/>
            <a:ext cx="898560" cy="291816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761000" y="879120"/>
            <a:ext cx="287280" cy="298908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60880" y="887040"/>
            <a:ext cx="341280" cy="298116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46840" y="1022400"/>
            <a:ext cx="952200" cy="286056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46840" y="1249200"/>
            <a:ext cx="1549080" cy="2619360"/>
          </a:xfrm>
          <a:prstGeom prst="line">
            <a:avLst/>
          </a:prstGeom>
          <a:ln w="360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5416560"/>
            <a:ext cx="87422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gle between the radial members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/(n-1) where n is the number of radial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9000" y="4371840"/>
            <a:ext cx="8510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radial members are equally spaced, what is the angle between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994440"/>
            <a:ext cx="10080720" cy="565200"/>
          </a:xfrm>
          <a:prstGeom prst="roundRect">
            <a:avLst>
              <a:gd name="adj" fmla="val 278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1280" y="7051680"/>
            <a:ext cx="2097360" cy="452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653760" y="6986520"/>
            <a:ext cx="425160" cy="5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